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F29-0505-489C-B948-2BF18C17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13D-48C1-471F-A941-C4A5F661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F81-279E-4423-AACB-D0B76401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FCC-DEDB-440F-B3D0-565D9BE6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43C-4C4F-484E-9A3F-00B77474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0D5-AEA6-47F8-AA9C-627DB81B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C94-1728-497F-8B7C-225DCD62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C3D-D43D-4E8C-8C90-7603603D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4B3-8DE8-47FB-BCA7-90C94AFA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830-4D03-4221-B278-0350A80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DDF-DBCB-40CD-9737-E3421EFF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5D3-6F2E-41A3-B897-35793BA6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4BC3-8709-4117-A837-FF558E993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06440" y="1625760"/>
            <a:ext cx="92502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ce5cd"/>
                </a:solidFill>
                <a:latin typeface="Arial"/>
              </a:rPr>
              <a:t>Почему планеты имеют форму шара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ce5cd"/>
                </a:solidFill>
                <a:latin typeface="Arial"/>
              </a:rPr>
              <a:t>Попробуйте ответить на вопросы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ce5cd"/>
                </a:solidFill>
                <a:latin typeface="Arial"/>
              </a:rPr>
              <a:t>1. Как получаются тела вращения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ce5cd"/>
                </a:solidFill>
                <a:latin typeface="Arial"/>
              </a:rPr>
              <a:t>2. Как изображают объемные тела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ce5cd"/>
                </a:solidFill>
                <a:latin typeface="Arial"/>
              </a:rPr>
              <a:t>3. В чем магия шара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ce5cd"/>
                </a:solidFill>
                <a:latin typeface="Arial"/>
              </a:rPr>
              <a:t>4. </a:t>
            </a:r>
            <a:r>
              <a:rPr b="0" lang="ru-RU" sz="3500" spc="-1" strike="noStrike">
                <a:solidFill>
                  <a:srgbClr val="fce5cd"/>
                </a:solidFill>
                <a:latin typeface="Arial"/>
              </a:rPr>
              <a:t>Магия тел вращения?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52600" y="1743120"/>
            <a:ext cx="905508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Что такое тела вращения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Какие тела вращения вы знаете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Где мы можем их увидеть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Как используются тела вращения в искусстве</a:t>
            </a:r>
            <a:r>
              <a:rPr b="0" lang="ru-RU" sz="2700" spc="-1" strike="noStrike">
                <a:solidFill>
                  <a:srgbClr val="eeeeee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eeeeee"/>
                </a:solidFill>
                <a:latin typeface="Arial"/>
              </a:rPr>
              <a:t>Как посчитать на объемы тел вращения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eee"/>
                </a:solidFill>
                <a:latin typeface="Arial"/>
              </a:rPr>
              <a:t>Количество образов основных тел вращения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680" y="20520"/>
            <a:ext cx="96105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2600" y="1743120"/>
            <a:ext cx="905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Тела вращ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4680" y="20520"/>
            <a:ext cx="9420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58880" y="1865160"/>
            <a:ext cx="4713480" cy="771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08320" y="2154240"/>
            <a:ext cx="3774960" cy="28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222960" y="2676600"/>
            <a:ext cx="1757520" cy="171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68640" y="2803680"/>
            <a:ext cx="1441440" cy="158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180120" y="4433760"/>
            <a:ext cx="2328840" cy="43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2040" y="4502160"/>
            <a:ext cx="2200320" cy="28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кт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009880" y="4898880"/>
            <a:ext cx="509400" cy="10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164360" y="4898880"/>
            <a:ext cx="593640" cy="100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1428840" y="6264360"/>
            <a:ext cx="199080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1550880" y="4386240"/>
            <a:ext cx="1992600" cy="412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50880" y="4457880"/>
            <a:ext cx="1943280" cy="28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7960" y="6330960"/>
            <a:ext cx="1895760" cy="28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664320" y="5897520"/>
            <a:ext cx="1992240" cy="412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35600" y="5897520"/>
            <a:ext cx="1895760" cy="28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к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52600" y="3394800"/>
            <a:ext cx="9055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 algn="ctr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Обзор учебников и энцилопедий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Поиск информации и создание каталога полезных ресурсов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оздать презентацию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5960" y="5904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руппа исследователе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52600" y="1743120"/>
            <a:ext cx="9055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Создание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уклета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«Тела вращения в искусстве»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ли «Тела вращения.  Объемы тел вращения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Нарисовать картину из тел вращения, используя компьютерные технологии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7400" y="49680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руппа практик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Оценивание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1760" y="1362240"/>
            <a:ext cx="966780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Должны быть получены ответы на поставленные задач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буклет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 д</a:t>
            </a: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л</a:t>
            </a: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же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н в полной мере отражать свойства тел вращения. Должны содержаться все необходимые формулы для вычисления всех параметров данного тела вра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Правильно оформлен библиографический список и</a:t>
            </a: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 список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использованных 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ресурсов Интерн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eeeeee"/>
                </a:solidFill>
                <a:latin typeface="Arial"/>
              </a:rPr>
              <a:t>презентации</a:t>
            </a: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 должно содержаться достаточное количество иллюстрац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Презентация должна в полной мере отражать ход исследования и достигнутые це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e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Arial"/>
              </a:rPr>
              <a:t>Оформление презентации должно быть удобным для вос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dmin</cp:lastModifiedBy>
  <dcterms:modified xsi:type="dcterms:W3CDTF">2010-05-24T05:16:26Z</dcterms:modified>
  <cp:revision>6</cp:revision>
  <dc:subject/>
  <dc:title>PowerPoint Presentation</dc:title>
</cp:coreProperties>
</file>